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E85-26A5-4D1E-B5D2-BA238E68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5C6-B768-4D4B-906F-02B8C039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D40-9323-4849-B0C1-EAB4F7BC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C98-C812-40AC-8887-4151A1B2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720-25D0-416E-9912-222475E6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31E-9275-4006-884B-C888BC18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C4C-E14B-4A37-99D5-C6314160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213-C9E6-4AE8-9926-6577589D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7E6-C522-4A39-A511-997945D4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93B-74F8-4D7D-812E-32A33442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87C-044E-4A00-B55A-8F1EE9B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935-1E62-4E6B-B22F-BE2CF82E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898A-5BFD-4E68-9A71-E412E993C7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69236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ates, Ratios and Proportion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Measures of Disease Frequenc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Incidence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(I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es of a disease that develop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 (P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 </a:t>
            </a:r>
            <a:r>
              <a:rPr b="0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exis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es of a disease at a particular point in time or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362320" y="12952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be viewed as describing a pool of disease in a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scribes the input flow of new cases into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ality and recovery reflects the output flow from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= # of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ew c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# of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sease-free su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1219320"/>
                <a:ext cx="2514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14758" r="0" b="0"/>
          <a:stretch/>
        </p:blipFill>
        <p:spPr>
          <a:xfrm>
            <a:off x="1981080" y="1295280"/>
            <a:ext cx="5029200" cy="336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50292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rief specified periods of time, e.g. an outbreak, commonly called an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existing cases of a health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feature of a cross-sectio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 of Preva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int 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= # of observed cases at tim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Population size at tim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frequency of disease at a given point i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00400" y="1295280"/>
                <a:ext cx="22860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int Prevalenc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there are 150 individuals in a population and, on a certain day, 15 are ill with the flu.  What is the estimated prevalence for this popu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14600" y="4267080"/>
                <a:ext cx="33526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iod 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the # of prevalent cases at the beginning of the time peri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the # of incident cases that develop during th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size of the population for this same ti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666880" y="1600200"/>
                <a:ext cx="35816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ful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ing the health status of a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health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t Useful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s, Ratios, Propor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general classes of mathematical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used to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number of c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disease or health outcome to the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ize of the source popu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which they oc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the start of the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mulative 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one year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 = (25 + 15) / 150 = 0.27 or 2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the start of the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25/150 = 0.17 = 1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mulative 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one year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 = 15/125 = 0.12 = 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isk (propor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≤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≤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% ≤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percent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≤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risk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0-year risk that a 45-year-old male will develop prostate cancer is 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how rapidly health events are occurring in a population of inte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pidemiologic studies, we typically measure the average rate at which a disease is occurring over a period of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new cases per 10,000 person-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Interpreta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verage of 50 cases occurs for every 10,000 years of disease free follow-up time observed on a cohort of su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se describes a r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new cases per 100 person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les per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new cases out of 100 disease-free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new murder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deaths out of 200 lung cancer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cidence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# of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ew c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ring follow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 =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tal 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disease–free individuals in the cohort are observed over the study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Synonym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zard rate, incidence density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he rapidity with which new cases are occurring in a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124080" y="1219320"/>
                <a:ext cx="281952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ample</a:t>
            </a:r>
            <a:br>
              <a:rPr sz="36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ypothetical cohort of 12 initially disease-free subjects followed over a 5-year period from 1990 to 1995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value of 0.20 a propor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value of 0.20 represent the risk of developing disea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1295280"/>
                <a:ext cx="609624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20 new cases per 100 person-yea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kinson’s Disea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572000" cy="2724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572000" cy="88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209680" y="5105520"/>
            <a:ext cx="4572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using Risk with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rm “Rate” is often been used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cor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scribe a measure of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.g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ttack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se-Fatality 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reading Epidemiologic literature, one should be careful to determine the actual measure being re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ca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ea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3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isk (propor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an individual with certain characteristics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moking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experience a health status change over a specified follow-up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Assumes: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Does not have disease at start of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Does not die from other cause during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point prevalence a propor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13 people from a population of size 406,245 had a particular disease at time t.  What is the point prevalence of this disease at time 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expressions is equivalent to the point prevalence estimate of 0.00003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2 per 1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2 per 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2 per 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tality Ris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-Specific Mor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causes Mor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Fa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3581280"/>
                <a:ext cx="26668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tality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-Specific Mor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causes Mor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Fa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0400" y="3657600"/>
                <a:ext cx="251460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pi CD-ROM; Kleinba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pi Companion Textbook; Kleinbaum, Sullivan, B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 in Medicine, Hennek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ca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ea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3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nual occurrence of Hep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:  62 / 25,000  =  2.5 per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:  35 / 7,000 = 5.0 per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expressed as: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Number of stillbirths per thousand live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term that includes Rates and Propor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743200" y="4343400"/>
                <a:ext cx="2514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stillbir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live birth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267080" y="2438280"/>
                <a:ext cx="1143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foodborne epidemic occurred in an elementary school.  The attack rate in the first grade was 24% while the attack rate in the second grade was 16%.  Compare these two attack r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Ratio or Relativ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97280" y="3913200"/>
                <a:ext cx="1476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d a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,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number of fetal deaths out of the total number of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often read as a perc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0" y="4648320"/>
                <a:ext cx="4038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births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2133720"/>
                <a:ext cx="12193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4114800"/>
                <a:ext cx="4191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ive births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fetal death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00 people attended a company picnic and 50 became ill with acute enteric disease.  Calculate the proportion of ill per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0" y="4648320"/>
                <a:ext cx="4038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births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362400" y="3581280"/>
                <a:ext cx="2646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number of new cases of Parkinson’s disease which develops per 1,000 person-years of follow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, place and population must be specified for each type of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76520" y="4343400"/>
                <a:ext cx="62481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new cases of Parkinson's disea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time disease-free subjects observ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352680" y="2286000"/>
                <a:ext cx="1143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Nancy Barker</dc:creator>
  <dc:description/>
  <dc:language>en-US</dc:language>
  <cp:lastModifiedBy>Nancy Barker</cp:lastModifiedBy>
  <dcterms:modified xsi:type="dcterms:W3CDTF">2004-09-22T15:48:14Z</dcterms:modified>
  <cp:revision>172</cp:revision>
  <dc:subject/>
  <dc:title>Slide 1</dc:title>
</cp:coreProperties>
</file>